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6490-C47C-485D-9300-9A9F6B559165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6067-59DA-4B3D-B4BE-34EBC3B8F24C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DD2F-3956-4FA5-836D-EF211A52C5CD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A9C6-C271-4EED-8231-E7598B44081C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3F4E-4E2B-4A57-9274-B1DC72EB1C9D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195A-4535-4146-BB16-7D3163B05AE7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432B-E37E-4E1B-86AD-42A65D072ED1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A12A-497F-424B-955B-88B4B832ED2F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7151-B921-4260-9391-0268D346EE64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F25E-B7B7-44C5-B8FD-3E9B92B70E09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C9D6-326F-46DD-87BC-88DA8EE60B01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043-E182-44F6-8ECD-E557ABC0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C0C-E539-48FA-915A-164D78F5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F6FBE-242C-4E3A-914D-A01B28FB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22991-8335-4F3E-AC2A-242B038A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533DA-1B64-4B58-9455-7814D6B2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C0AF2-2678-4940-8E1E-E5B92F07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A7582-F5A4-4B17-8943-EADD1D56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A30A1-A0C2-415A-9B37-CF6F0A50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D8270-657E-4A20-BC7C-2175B765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C9BB8-F70F-46A5-AF32-943BAEBF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C696B-6F39-4C88-8C81-1E21EE00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80B7A-D27F-4A44-BD27-A3BA3347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CB8-0929-483A-A107-F2F74CCC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BE17C-0E3F-4259-BDB5-A689323E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02DE4-C8A1-42D9-873C-9D58EDF8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AC383-5F1B-4C29-95E3-32925482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E70F4-5613-4B18-A3C8-FEE42252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073D3-EB54-48CE-87E8-896FC98B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81DDD-4869-4011-AC40-98F4252F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AFE9D-1A72-4E67-81B4-76A27E5A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0323A-67B9-411D-9001-CD8B21E6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91366-229D-4037-BEAF-1DDB0551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13EEB-F05A-425B-8E34-26C548C8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E3D-16ED-46BD-8088-B19EB0E5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02B1D-A281-4889-8D3D-BF420592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1E654-F3AC-4D1E-84FF-46C1754A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0EBF8-934E-4F07-9BB5-3B25924C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230B8-D391-4762-8C06-A33AEFC2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63110-8865-43EB-AAD5-901678E8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D01B5-8948-4817-B746-531BA8D3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E7D6B-4FC6-492A-8D94-88939173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9C7E1-A8D0-48B2-88FF-3DAEEBF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33E6D-82E2-4A20-B172-E4200CD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2848C-3B48-49F1-BA06-9018C469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E852-6DEA-40F3-B1BB-C65EECDF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127A7-CBBC-4A11-AB83-8D8350A3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EDC1E-E13A-4472-9DEB-F28B6C27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27C01-5622-4A71-A213-B14F2033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77BB8-0755-4B82-8BCF-C437319A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57BE3-96FD-4278-964D-B4B488F4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E3034-90AD-49E6-BD32-C9223660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53C9B-982C-4D5C-94C5-B30D0EFD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B3316-B1C0-494D-B91A-00C1DCB6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03CD7-1EB5-441F-93A7-C1D8FDFA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EF7E5-185A-43B0-8679-69FD2B12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D175-4E0B-4FF4-8432-3B12EF31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69B65-66B0-468C-8428-036988ED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1635B-3778-4892-B4EB-85F03FC8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253E6-9C12-45E2-92A0-3B074DA2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DCE42-043F-4BA0-8CFE-1B406D14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ABB34-C0D6-46A1-ABA3-CC38976F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F715-80C6-4775-B4B7-E0F5202E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34A9-2161-4906-95A7-F675198D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008C-DB62-4BFB-BC9B-1E07EFD5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CAEB-BD02-46A1-A847-D36E4CCE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D944-982D-43F1-B2FC-C28E0F3F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8D5-5ABB-488D-BA1E-A90C5448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8EC1-F2ED-498B-B36B-B37EC606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A421-33D7-4DAA-83E9-85CB757E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43EC-C64C-4A3B-9697-00E42091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AF30-71D3-4785-A400-177D0DE2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E94B-C223-465D-B42D-04090E71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3A3A-C6CB-4102-B6B5-50DA44F3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7983-6471-4BCF-BF4C-20950BD6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0021-895C-4DAC-BAFD-BA5CA3AB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B3F99-39EE-4ABB-B94B-C2027317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8E14-A58F-4026-A51D-E82CD425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315-B80F-4AA6-8148-CC4E0C1E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F3C9-648C-4DF0-80F0-F96150C7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6D79-64B9-4859-A138-0C5FFA68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786E3-76D8-4CDA-B146-39134A20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ABA8-AF47-441E-A076-00B74B72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CE96-F317-4B40-A13F-EFA51432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9C5D-8DC4-4736-BE6E-83019BFC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C0ED-4070-47A2-AECD-0B18BB96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BA120-A369-4C1D-AA28-907CC125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D9620-D75B-4174-B5D7-92E6D48B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83E1-6C05-400E-AD3A-63AB7108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D51-B1A2-4140-A8F6-1A861497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80C91-8001-4E9E-B206-058C20DB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63A8-626D-4E1C-BDC0-41274E58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80169-C1B3-4A1D-B400-A94BAAD6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B44B0-269A-4115-BDAB-7F3FDB4C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D9581-38B6-45F5-AF27-FCA51944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D02A9-1149-4CA1-BF01-2986B8A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E2DC1-2941-4748-997C-21F40A50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8D37-0938-4E3D-9A3C-D13E432A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8970-7B69-4D9C-BC34-ADD4BBBB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4430A-1096-46DD-B32D-C8345ECE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AB1-9CE4-4AA1-BE24-D3B698A2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7FC89-706A-4135-AECC-44FD25FF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A2D02-E113-459B-8A8A-6868F64E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3BD5C-8989-4082-BEDF-84D2687A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E29EA-8FA2-44A4-9A2B-C16F4A22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DA573-475E-4515-81CF-EF8C0072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5D856-5C19-4C91-93C3-9E4C4C3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55640-3BF6-4238-8CCB-1214A5C1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75610-7D17-4ED1-BDD1-18D8A670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229AC-6F77-46B9-B3D1-F5176D18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8F8FA-747D-4FF6-A15E-215A4AEC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DCD-FC4F-49A9-B588-8B5B0EDE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09327-03DF-4562-BFC1-D9ACFFA0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02AE6-C6CF-43F0-98EC-A64B35C4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12964-85C1-416E-964D-93309A46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8BCE4-20C0-44BA-B08F-C4F7F2BF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50BB1-7030-4FE6-AE33-2FB1474C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AAE26-F15B-481F-9164-4AF91387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3845A-B210-4A89-9E0F-AAB011EB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8DA48-A439-40AF-B9CD-F2EF0F06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2E890-A485-4500-8CE5-61530A7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59D99-A22A-4889-A6E5-6FDE327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001-4871-4B03-A5DC-30158588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3A431-BD4C-4B3B-A28D-A9CB30B4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F0CCB-75F3-43B9-8D54-E4D9CDE0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54CE5-E2B5-4A62-91E5-195171DE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79A85-F129-4232-B1AC-B9FB5E78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5F3AC-005E-421C-8886-A5F9B352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AA48C-5351-4387-8220-4E632F61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C3CF6-1C5A-4523-9685-190EC6F6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2B826-F578-47D2-A6F9-1ACD4004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C2BB9-D21C-441B-9300-1412F975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58BDF-7640-4E0E-BBB6-34AFBCA6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426-C21D-442E-8588-4B45C179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89C77-3A26-4EF5-BD88-52BE4F17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CEB34-AFDC-41BC-8FA2-F3034AFA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8F00B-0F80-4734-9147-69EF60BE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8FD99-AFA5-4C73-A2D4-BADA012B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C5392-B8D8-4405-AC11-9F583BDB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EB82F-4DF8-4C8E-88A7-5EDE77FD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39D2C-8FD5-4511-ADE6-4C4C30AA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46286-3472-447C-80E0-E4553EBA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097B0-58EC-4E24-B8EB-93334531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DAFBC-7E42-4F5F-9D60-61818F60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DD4-1A0A-450C-BF03-4183020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583D0-20FA-42F4-B29A-A5BBC7EF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B76D1-F78D-4BF0-9B86-69F59C61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7FD12-A28D-4EC0-BAFE-7DC2B958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F0134-EFDF-4D4A-826F-31D17F35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21F62-2786-4506-AC5C-DD8328C8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A2C75-7CF7-4789-A063-70A03200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F6AD4-651D-49C5-8546-FF976F2A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23529-9CAF-4071-80D8-B99475E0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39F5C-A2A4-4559-A3BB-E2EA0F7B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85BFB-B7B8-4124-BEB7-BC2AB258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02A3-4CB7-4892-89C7-AC363A9CF1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EE6A-48DC-4343-A3F7-14553AA649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4CDD-360C-4D69-A6B2-9785640D9F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3A36-87CB-4C8B-BBE0-A0B94A1574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11FD-AD82-4062-8C65-35614EDCE44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0B3A-E313-464A-BF16-C254CEE1EB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D768-D741-492C-A168-C62B12E171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2241-7D66-4EB9-B40D-66EFF2F4F9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3150-167D-4C16-8829-0CD7D58FF7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54E9-3A3C-4082-9DDF-B4035E20D1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0CA4-81D8-4E94-B58B-4FC21FF822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1865-B873-456A-86AB-C1C24CD5D8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52 Či dušu mi smútok a bôľ zaplav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o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mät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a môj drahý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vždy rád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dušu mi smútok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ôľ zaplav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radosť a mier vládne v ne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viem, v nebesia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môj Pán láskav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ý dbá o mňa, dej sa čo d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o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mät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a môj drahý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vždy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bremeno hriec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ín zo mňa sň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a kríž šiel sám kvôli mn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pásy dar dáva 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íši môj žia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ku vzdávať mu chcem úprim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o chc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mät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a môj drahý Pá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vždy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dnes vierou zrie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 ten vznešený ci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blízko je spasenia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Už čoskoro príde náš Vykupiteľ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spolu s ním vojdem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do ríše krá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1T16:45:03Z</dcterms:modified>
  <cp:revision>22</cp:revision>
  <dc:subject/>
  <dc:title>Je veľký náš Pán, on slávy je Kráľ Nech do všetkých strán  spev vrúcnych znie chvál.</dc:title>
</cp:coreProperties>
</file>